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ClasicaBeethovenSonataClarodeLuna.wav" ContentType="audio/x-wav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2FC-CF61-46BA-99AC-DEADF488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B26-DA52-401A-84F0-DDF62646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93F-CBAC-4225-AAFB-A080092B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1FC-0587-4CD8-9FEE-A7257DD3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D990-5C1C-416E-9B9B-7C23EA00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FD19-FCBB-4C92-A12F-FB808AC5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FF3-6C6A-4807-8C17-982309FD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3D42-9FDB-4952-8B66-46FD81F7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AF26-B6FB-4FD5-983B-0E8D0A36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D10C-71F9-42DB-B3A5-274CDF45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D211-560B-4901-B43E-27C01992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030-CD42-47AC-BB6B-EE756844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33C8-642A-4DFB-AB30-23441C31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B3B7-D713-4CBE-83CD-ACC5754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47B8-8DBF-47FE-8C76-02291C6A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51DF-6884-41C4-ACE4-C3021CE3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E21E-4A8F-433B-B671-1F2A87EF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2C5-5FB7-480A-ADD6-4CA622F0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35F-3C4A-4204-9016-5E00A8D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581-6DE1-4569-BD88-3C8C5251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57A-DE05-4E61-906F-8412342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1D1-22D1-4726-9D3A-348CE910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730-AA2B-45AA-8C4A-9A4E637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25A-591E-4B0F-9E16-4E02295B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7097-BC75-4C7E-A955-075BC25BD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CE95-787F-493C-AAAF-B640C2625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ClasicaBeethovenSonataClarodeLuna.wav" TargetMode="External"/><Relationship Id="rId4" Type="http://schemas.microsoft.com/office/2007/relationships/media" Target="file:///tmp/home/.config/libreoffice/4/user/gallery/ClasicaBeethovenSonataClarodeLuna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lasicaBeethovenSonataClarodeLun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62320" y="533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"13 LÍNEAS PARA VIVIR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2944800"/>
            <a:ext cx="7697520" cy="347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  <p:sndAc>
      <p:stSnd>
        <p:snd r:embed="rId6" name="ClasicaBeethovenSonataClarodeLun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3526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808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Quizá Dios quiera que conozcas mucha gente equivocada  antes de que conozcas a la persona adecuada, para que cuando al fin la conozcas , sepas estar agradec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14248" t="12758" r="14248" b="12796"/>
          <a:stretch/>
        </p:blipFill>
        <p:spPr>
          <a:xfrm>
            <a:off x="457200" y="457200"/>
            <a:ext cx="4062240" cy="5257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91320" y="1523880"/>
            <a:ext cx="304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llores porque ya se </a:t>
            </a:r>
            <a:r>
              <a:rPr b="0" lang="es-MX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terminó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, sonríe porque sucedi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7146" t="14234" r="17405" b="14587"/>
          <a:stretch/>
        </p:blipFill>
        <p:spPr>
          <a:xfrm>
            <a:off x="228600" y="685800"/>
            <a:ext cx="5715000" cy="498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4191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335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Siempre habrá gente que te lastime, así que lo que tienes que hacer es seguir confiando y solo ser mas cuidadoso en quien confías dos ve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2819520" cy="2703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00600" y="38088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Conviértete en una mejor persona y asegúrate de saber quien eres antes de conocer a alguien más y  esperar que esa  persona sepa quien e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600" y="167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85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25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800600" y="5335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No te esfuerces tanto, las mejores cosas suceden cuando menos te las esperas.</a:t>
            </a:r>
            <a:r>
              <a:rPr b="0" lang="es-ES" sz="36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0759" t="53801" r="8625" b="0"/>
          <a:stretch/>
        </p:blipFill>
        <p:spPr>
          <a:xfrm>
            <a:off x="6400800" y="5181480"/>
            <a:ext cx="2286000" cy="91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0263" t="13926" r="10263" b="13926"/>
          <a:stretch/>
        </p:blipFill>
        <p:spPr>
          <a:xfrm>
            <a:off x="338040" y="304920"/>
            <a:ext cx="4233960" cy="5410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8160" y="60102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097000"/>
            <a:ext cx="84582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oper Black"/>
                <a:ea typeface="Times New Roman"/>
              </a:rPr>
              <a:t>   </a:t>
            </a:r>
            <a:r>
              <a:rPr b="0" lang="es-ES" sz="3200" spc="-1" strike="noStrike">
                <a:solidFill>
                  <a:srgbClr val="ffff99"/>
                </a:solidFill>
                <a:latin typeface="Verdana"/>
                <a:ea typeface="Times New Roman"/>
              </a:rPr>
              <a:t>Envíalo a las personas que por alguna razón son tus amigos,  aunque no los veas siempre, aunque no les hables siempre.. pues recu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"TODO LO QUE SUCEDE, SUCEDE POR UNA RAZÓN"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398080" cy="830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2860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e quiero no por quien eres, sino por quien soy cuando estoy conti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343400" y="1143000"/>
            <a:ext cx="3916440" cy="490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9051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Ninguna persona merece tus l</a:t>
            </a:r>
            <a:r>
              <a:rPr b="0" lang="es-MX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á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grimas, y quien se las merezca no te hará llor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2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8124" t="8460" r="8550" b="5257"/>
          <a:stretch/>
        </p:blipFill>
        <p:spPr>
          <a:xfrm>
            <a:off x="4724280" y="685800"/>
            <a:ext cx="3981600" cy="495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05520" y="609480"/>
            <a:ext cx="327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Sólo porque alguien no te ame como tu quieres,</a:t>
            </a:r>
            <a:r>
              <a:rPr b="0" lang="en-U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no significa que no te ame con todo su s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2574" t="6772" r="11968" b="15405"/>
          <a:stretch/>
        </p:blipFill>
        <p:spPr>
          <a:xfrm>
            <a:off x="380880" y="457200"/>
            <a:ext cx="4413240" cy="563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13976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cc"/>
                </a:solidFill>
                <a:latin typeface="Verdana"/>
                <a:ea typeface="Times New Roman"/>
              </a:rPr>
              <a:t>Un verdadero amigo es quien te toma de la mano y te toca el coraz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" y="13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352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157640" cy="6400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33920" y="13716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La peor forma de extrañar a alguien es estar sentado a su lado y saber que nunca lo podrás ten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0273" t="15491" r="10320" b="17056"/>
          <a:stretch/>
        </p:blipFill>
        <p:spPr>
          <a:xfrm>
            <a:off x="4572000" y="685800"/>
            <a:ext cx="44449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Nunca dejes de sonreír, ni siquiera cuando estés triste porque nunca sabes quien se puede enamorar de tu sonris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6680" y="9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80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4698" t="3386" r="3766" b="15405"/>
          <a:stretch/>
        </p:blipFill>
        <p:spPr>
          <a:xfrm>
            <a:off x="4572000" y="685800"/>
            <a:ext cx="4457880" cy="548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41911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2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ccff66"/>
                </a:solidFill>
                <a:latin typeface="Verdana"/>
                <a:ea typeface="Times New Roman"/>
              </a:rPr>
              <a:t>Puedes ser solamente una persona para el mundo, pero para alguna persona tu eres el mun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78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9076" t="6772" r="7045" b="6945"/>
          <a:stretch/>
        </p:blipFill>
        <p:spPr>
          <a:xfrm>
            <a:off x="4572000" y="380880"/>
            <a:ext cx="4311720" cy="5943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7652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No pases el tiempo con alguien que no </a:t>
            </a:r>
            <a:r>
              <a:rPr b="0" lang="es-MX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esté</a:t>
            </a:r>
            <a:r>
              <a:rPr b="0" lang="es-ES" sz="3600" spc="-1" strike="noStrike">
                <a:solidFill>
                  <a:srgbClr val="ffff99"/>
                </a:solidFill>
                <a:latin typeface="Verdana"/>
                <a:ea typeface="Times New Roman"/>
              </a:rPr>
              <a:t> dispuesto a  pasarlo contigo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3836880" cy="624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6640" y="60102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(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8:10:40Z</dcterms:created>
  <dc:creator/>
  <dc:description/>
  <dc:language>en-US</dc:language>
  <cp:lastModifiedBy>Eve Gisela Dib Chagra</cp:lastModifiedBy>
  <dcterms:modified xsi:type="dcterms:W3CDTF">2004-09-26T21:40:06Z</dcterms:modified>
  <cp:revision>53</cp:revision>
  <dc:subject>13 Líneas para vivir.</dc:subject>
  <dc:title>Presentación de PowerPoint</dc:title>
</cp:coreProperties>
</file>